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8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5.png" ContentType="image/png"/>
  <Override PartName="/ppt/media/image24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ECC6-BE98-4B3C-B451-4110FED9DD8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5C40-CDD4-4EFC-9991-C9DDAB8FBFB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a semi-fluid med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ell walls are made from cellulose. The secondary cell wall, which forms inside the primary wall, is formed from lignin. Its purpose is to give strength to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AF99-1886-4541-8F12-324CE1BFAAA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al bodies have the same microtubule arrangement as centrioles and are believed to be derived from them. The basal body initiates polymerization of the nine outer doublets of a cilium or flagell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6961-57D8-4A11-9418-13EB3998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34DF-534B-4EFE-8E92-CC34ABDB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2EA9-04E3-4D8C-AF15-CF5B0435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CA44-F509-4021-9318-09FF7741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FC29-8F94-459F-A0D1-BF8F8C7F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1BCB-7A07-4F41-AC8B-30A27AD9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FE67-9F39-44ED-AF6C-71483BF9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A304-F508-408E-A308-448DC18D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7CAD-328F-4D5D-8A30-3D777CDD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A95-F62D-4A93-8CEB-F101CD74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FE2F-9827-4F97-ABA1-99E0C155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50B-5617-40F9-AED3-248EC774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A5A8-8238-4199-A160-D9D374576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ell1"/>
          <p:cNvPicPr/>
          <p:nvPr/>
        </p:nvPicPr>
        <p:blipFill>
          <a:blip r:embed="rId1"/>
          <a:stretch/>
        </p:blipFill>
        <p:spPr>
          <a:xfrm>
            <a:off x="228600" y="84240"/>
            <a:ext cx="8610480" cy="659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371600"/>
            <a:ext cx="769608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ell Structure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&amp; Fun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karyo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have structures surrounded by membr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internal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celled organisms, Bact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prokaryote"/>
          <p:cNvPicPr/>
          <p:nvPr/>
        </p:nvPicPr>
        <p:blipFill>
          <a:blip r:embed="rId1"/>
          <a:stretch/>
        </p:blipFill>
        <p:spPr>
          <a:xfrm>
            <a:off x="4038480" y="1676520"/>
            <a:ext cx="46483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ic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Prokaryotic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e the bacteria and archa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l cells have these constant 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uter Bound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 Cel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a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ytopla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          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ylakoids (Cyanobacte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ucleo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             Chromosome (DNA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karyotic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Arial"/>
              </a:rPr>
              <a:t>Eukaryotic cel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ve a </a:t>
            </a:r>
            <a:r>
              <a:rPr b="0" i="1" lang="en-US" sz="3600" spc="-1" strike="noStrike">
                <a:solidFill>
                  <a:srgbClr val="3333ff"/>
                </a:solidFill>
                <a:latin typeface="Arial"/>
              </a:rPr>
              <a:t>nucle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at controls the workings of the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cells are surrounded by a </a:t>
            </a:r>
            <a:r>
              <a:rPr b="0" i="1" lang="en-US" sz="3600" spc="-1" strike="noStrike">
                <a:solidFill>
                  <a:srgbClr val="3333ff"/>
                </a:solidFill>
                <a:latin typeface="Arial"/>
              </a:rPr>
              <a:t>plasma membra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de of phospholipids and prote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ukaryo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rrounded by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3" descr="eukaryote_animal"/>
          <p:cNvPicPr/>
          <p:nvPr/>
        </p:nvPicPr>
        <p:blipFill>
          <a:blip r:embed="rId1"/>
          <a:stretch/>
        </p:blipFill>
        <p:spPr>
          <a:xfrm>
            <a:off x="4419720" y="2743200"/>
            <a:ext cx="4375080" cy="3646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eukaryote_plant"/>
          <p:cNvPicPr/>
          <p:nvPr/>
        </p:nvPicPr>
        <p:blipFill>
          <a:blip r:embed="rId2"/>
          <a:stretch/>
        </p:blipFill>
        <p:spPr>
          <a:xfrm>
            <a:off x="380880" y="2895480"/>
            <a:ext cx="4191120" cy="3168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5"/>
          <p:cNvSpPr/>
          <p:nvPr/>
        </p:nvSpPr>
        <p:spPr>
          <a:xfrm>
            <a:off x="1143000" y="2438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5105520" y="2438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304920" y="61722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sma membrane regulates what enters and exits th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ide the plasma membrane, the nucleus is surrounded by </a:t>
            </a:r>
            <a:r>
              <a:rPr b="0" i="1" lang="en-US" sz="3200" spc="-1" strike="noStrike">
                <a:solidFill>
                  <a:srgbClr val="3333ff"/>
                </a:solidFill>
                <a:latin typeface="Arial"/>
              </a:rPr>
              <a:t>cytopla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plasm is a semi-fluid med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cells have a </a:t>
            </a:r>
            <a:r>
              <a:rPr b="0" i="1" lang="en-US" sz="3200" spc="-1" strike="noStrike">
                <a:solidFill>
                  <a:srgbClr val="3333ff"/>
                </a:solidFill>
                <a:latin typeface="Arial"/>
              </a:rPr>
              <a:t>cell w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ddition to the plasma membr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cell walls are made from cellulose. The secondary cell wall, which forms inside the primary wall, is formed from lignin. Its purpose is to give strength to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0066"/>
                </a:solidFill>
                <a:latin typeface="Arial"/>
              </a:rPr>
              <a:t>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ist one main difference between plant and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 plant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animal cells have organel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is the function of organel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 cell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03_02a"/>
          <p:cNvPicPr/>
          <p:nvPr/>
        </p:nvPicPr>
        <p:blipFill>
          <a:blip r:embed="rId1"/>
          <a:stretch/>
        </p:blipFill>
        <p:spPr>
          <a:xfrm>
            <a:off x="1160640" y="117792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ical” Anima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cell1"/>
          <p:cNvPicPr/>
          <p:nvPr/>
        </p:nvPicPr>
        <p:blipFill>
          <a:blip r:embed="rId1"/>
          <a:stretch/>
        </p:blipFill>
        <p:spPr>
          <a:xfrm>
            <a:off x="380880" y="995400"/>
            <a:ext cx="807732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ell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03_03a"/>
          <p:cNvPicPr/>
          <p:nvPr/>
        </p:nvPicPr>
        <p:blipFill>
          <a:blip r:embed="rId1"/>
          <a:stretch/>
        </p:blipFill>
        <p:spPr>
          <a:xfrm>
            <a:off x="1309680" y="1263600"/>
            <a:ext cx="659916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ical” Plan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8" descr="1plant3"/>
          <p:cNvPicPr/>
          <p:nvPr/>
        </p:nvPicPr>
        <p:blipFill>
          <a:blip r:embed="rId1"/>
          <a:stretch/>
        </p:blipFill>
        <p:spPr>
          <a:xfrm>
            <a:off x="1676520" y="1447920"/>
            <a:ext cx="617220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Arial"/>
              </a:rPr>
              <a:t>Cell Theo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living things are made up of c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are the smallest working units of all living thin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ells come from preexisting cells through cell divi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66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are the main similarities and differences between plant and animal ce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ell Part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Organel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and plant cells have </a:t>
            </a:r>
            <a:r>
              <a:rPr b="0" i="1" lang="en-US" sz="3200" spc="-1" strike="noStrike">
                <a:solidFill>
                  <a:srgbClr val="3333ff"/>
                </a:solidFill>
                <a:latin typeface="Arial"/>
              </a:rPr>
              <a:t>organel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elles </a:t>
            </a:r>
            <a:r>
              <a:rPr b="0" i="1" lang="en-US" sz="3200" spc="-1" strike="noStrike">
                <a:solidFill>
                  <a:srgbClr val="3333ff"/>
                </a:solidFill>
                <a:latin typeface="Arial"/>
              </a:rPr>
              <a:t>compartmental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s within th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ganelles of animal and plant cells are similar to each other except that centrioles are present only in animal cells, and chloroplasts are present only in plant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rrounding 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19720" y="1752120"/>
            <a:ext cx="44193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er membrane of cell that controls movement in and out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lay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cellmemb"/>
          <p:cNvPicPr/>
          <p:nvPr/>
        </p:nvPicPr>
        <p:blipFill>
          <a:blip r:embed="rId1"/>
          <a:stretch/>
        </p:blipFill>
        <p:spPr>
          <a:xfrm>
            <a:off x="533520" y="19209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ly found in plant cells &amp;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&amp; protects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cellwall"/>
          <p:cNvPicPr/>
          <p:nvPr/>
        </p:nvPicPr>
        <p:blipFill>
          <a:blip r:embed="rId1"/>
          <a:stretch/>
        </p:blipFill>
        <p:spPr>
          <a:xfrm>
            <a:off x="457200" y="184464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66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ich structure surrounds a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riefly outline the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ide 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s cel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d from cytoplasm by nuclear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genetic material -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ounds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of two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ings allow material to enter and leave nucl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nmemb"/>
          <p:cNvPicPr/>
          <p:nvPr/>
        </p:nvPicPr>
        <p:blipFill>
          <a:blip r:embed="rId1"/>
          <a:stretch/>
        </p:blipFill>
        <p:spPr>
          <a:xfrm>
            <a:off x="5105520" y="14479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03_tap48"/>
          <p:cNvPicPr/>
          <p:nvPr/>
        </p:nvPicPr>
        <p:blipFill>
          <a:blip r:embed="rId1"/>
          <a:srcRect l="0" t="7860" r="0" b="0"/>
          <a:stretch/>
        </p:blipFill>
        <p:spPr>
          <a:xfrm>
            <a:off x="1371600" y="1498680"/>
            <a:ext cx="6464160" cy="5359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are </a:t>
            </a:r>
            <a:r>
              <a:rPr b="0" i="1" lang="en-US" sz="3200" spc="-1" strike="noStrike">
                <a:solidFill>
                  <a:srgbClr val="3333ff"/>
                </a:solidFill>
                <a:latin typeface="Arial"/>
              </a:rPr>
              <a:t>sm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 they can exchange materials with their surround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instructions for traits &amp; characteris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chromosomes"/>
          <p:cNvPicPr/>
          <p:nvPr/>
        </p:nvPicPr>
        <p:blipFill>
          <a:blip r:embed="rId1"/>
          <a:stretch/>
        </p:blipFill>
        <p:spPr>
          <a:xfrm>
            <a:off x="609480" y="19954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RNA to build prote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nucleolus"/>
          <p:cNvPicPr/>
          <p:nvPr/>
        </p:nvPicPr>
        <p:blipFill>
          <a:blip r:embed="rId1"/>
          <a:stretch/>
        </p:blipFill>
        <p:spPr>
          <a:xfrm>
            <a:off x="4495680" y="169056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0" y="6095880"/>
            <a:ext cx="762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l-like mix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unded by 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hereditary mater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0" descr="er"/>
          <p:cNvPicPr/>
          <p:nvPr/>
        </p:nvPicPr>
        <p:blipFill>
          <a:blip r:embed="rId1"/>
          <a:stretch/>
        </p:blipFill>
        <p:spPr>
          <a:xfrm>
            <a:off x="533520" y="192096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190760" y="1295280"/>
            <a:ext cx="46479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s materials around in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type: lacks 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 type (pictured): ribosomes embedded in surf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155520" y="46080"/>
            <a:ext cx="127656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155520" y="46080"/>
            <a:ext cx="127656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ell contains thous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on rough endoplasmic reticulum &amp; floating throughout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ribosomes"/>
          <p:cNvPicPr/>
          <p:nvPr/>
        </p:nvPicPr>
        <p:blipFill>
          <a:blip r:embed="rId1"/>
          <a:stretch/>
        </p:blipFill>
        <p:spPr>
          <a:xfrm>
            <a:off x="4648320" y="1844640"/>
            <a:ext cx="4190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energy through chemical reactions – breaking down fats &amp;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level of water and other materials in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ycles and decomposes proteins, fats, and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mitochondria"/>
          <p:cNvPicPr/>
          <p:nvPr/>
        </p:nvPicPr>
        <p:blipFill>
          <a:blip r:embed="rId1"/>
          <a:stretch/>
        </p:blipFill>
        <p:spPr>
          <a:xfrm>
            <a:off x="5486400" y="167652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lgi Bo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 'packaging plant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materials within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materials out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golgi"/>
          <p:cNvPicPr/>
          <p:nvPr/>
        </p:nvPicPr>
        <p:blipFill>
          <a:blip r:embed="rId1"/>
          <a:stretch/>
        </p:blipFill>
        <p:spPr>
          <a:xfrm>
            <a:off x="4419720" y="1387440"/>
            <a:ext cx="4190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lia and flage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98400" y="1295280"/>
            <a:ext cx="77724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ff"/>
                </a:solidFill>
                <a:latin typeface="Arial"/>
              </a:rPr>
              <a:t>Cil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3333ff"/>
                </a:solidFill>
                <a:latin typeface="Arial"/>
              </a:rPr>
              <a:t>flagel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9 + 2 pattern of micro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d in movement (cell, eggs, debri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ilium and flagellum has a </a:t>
            </a:r>
            <a:r>
              <a:rPr b="0" i="1" lang="en-US" sz="3200" spc="-1" strike="noStrike">
                <a:solidFill>
                  <a:srgbClr val="3333ff"/>
                </a:solidFill>
                <a:latin typeface="Arial"/>
              </a:rPr>
              <a:t>bas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3333ff"/>
                </a:solidFill>
                <a:latin typeface="Arial"/>
              </a:rPr>
              <a:t>bo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its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03_12"/>
          <p:cNvPicPr/>
          <p:nvPr/>
        </p:nvPicPr>
        <p:blipFill>
          <a:blip r:embed="rId1"/>
          <a:srcRect l="0" t="7500" r="0" b="0"/>
          <a:stretch/>
        </p:blipFill>
        <p:spPr>
          <a:xfrm>
            <a:off x="1147680" y="665280"/>
            <a:ext cx="6689880" cy="53798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 of a flagellum or cil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ve 'plant' for proteins, fats, and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undigested material to cell membrane for rem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breaks down if lysosome expl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lysosome"/>
          <p:cNvPicPr/>
          <p:nvPr/>
        </p:nvPicPr>
        <p:blipFill>
          <a:blip r:embed="rId1"/>
          <a:stretch/>
        </p:blipFill>
        <p:spPr>
          <a:xfrm>
            <a:off x="5029200" y="19051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Definition of Ce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ell is the smallest unit that is capable of performing life fun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cu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rane-bound sacs for storage, digestion, and waste rem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wate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plants maintain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vacuoles"/>
          <p:cNvPicPr/>
          <p:nvPr/>
        </p:nvPicPr>
        <p:blipFill>
          <a:blip r:embed="rId1"/>
          <a:stretch/>
        </p:blipFill>
        <p:spPr>
          <a:xfrm>
            <a:off x="4648320" y="16002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found in pl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green chlorophy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photosynthesis takes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chloroplast"/>
          <p:cNvPicPr/>
          <p:nvPr/>
        </p:nvPicPr>
        <p:blipFill>
          <a:blip r:embed="rId1"/>
          <a:stretch/>
        </p:blipFill>
        <p:spPr>
          <a:xfrm>
            <a:off x="4572000" y="176832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66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ist 5 structures within a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do golgi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does the mitochondria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function of the cytopla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function of the nucle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does the nuclear membrane allow to happ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function of the nucleol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function of the lysos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function of the endoplasmic reticulu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y don’t animal cells contain chloropla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amoebaproteus"/>
          <p:cNvPicPr/>
          <p:nvPr/>
        </p:nvPicPr>
        <p:blipFill>
          <a:blip r:embed="rId1"/>
          <a:stretch/>
        </p:blipFill>
        <p:spPr>
          <a:xfrm>
            <a:off x="685800" y="762120"/>
            <a:ext cx="1436760" cy="2298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poplarleaf"/>
          <p:cNvPicPr/>
          <p:nvPr/>
        </p:nvPicPr>
        <p:blipFill>
          <a:blip r:embed="rId2"/>
          <a:stretch/>
        </p:blipFill>
        <p:spPr>
          <a:xfrm>
            <a:off x="6781680" y="1219320"/>
            <a:ext cx="1919520" cy="189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redbloodcells"/>
          <p:cNvPicPr/>
          <p:nvPr/>
        </p:nvPicPr>
        <p:blipFill>
          <a:blip r:embed="rId3"/>
          <a:stretch/>
        </p:blipFill>
        <p:spPr>
          <a:xfrm>
            <a:off x="5867280" y="4724280"/>
            <a:ext cx="1905120" cy="17719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12"/>
          <p:cNvSpPr/>
          <p:nvPr/>
        </p:nvSpPr>
        <p:spPr>
          <a:xfrm>
            <a:off x="2438280" y="1676520"/>
            <a:ext cx="2819520" cy="533160"/>
          </a:xfrm>
          <a:prstGeom prst="wedgeRoundRectCallout">
            <a:avLst>
              <a:gd name="adj1" fmla="val -78435"/>
              <a:gd name="adj2" fmla="val 3541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eba Prot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/>
          <p:cNvSpPr/>
          <p:nvPr/>
        </p:nvSpPr>
        <p:spPr>
          <a:xfrm>
            <a:off x="4495680" y="2438280"/>
            <a:ext cx="1981440" cy="381240"/>
          </a:xfrm>
          <a:prstGeom prst="wedgeRoundRectCallout">
            <a:avLst>
              <a:gd name="adj1" fmla="val 97115"/>
              <a:gd name="adj2" fmla="val -5124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 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6400800" y="4114800"/>
            <a:ext cx="2362320" cy="457200"/>
          </a:xfrm>
          <a:prstGeom prst="wedgeRoundRectCallout">
            <a:avLst>
              <a:gd name="adj1" fmla="val -34208"/>
              <a:gd name="adj2" fmla="val 20937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5" descr="nrn956-i1"/>
          <p:cNvPicPr/>
          <p:nvPr/>
        </p:nvPicPr>
        <p:blipFill>
          <a:blip r:embed="rId4"/>
          <a:stretch/>
        </p:blipFill>
        <p:spPr>
          <a:xfrm>
            <a:off x="304920" y="4114800"/>
            <a:ext cx="1596960" cy="218772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6"/>
          <p:cNvSpPr/>
          <p:nvPr/>
        </p:nvSpPr>
        <p:spPr>
          <a:xfrm>
            <a:off x="2286000" y="5029200"/>
            <a:ext cx="1981080" cy="457200"/>
          </a:xfrm>
          <a:prstGeom prst="wedgeRoundRectCallout">
            <a:avLst>
              <a:gd name="adj1" fmla="val -107291"/>
              <a:gd name="adj2" fmla="val 7777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v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7" descr="bacteria"/>
          <p:cNvPicPr/>
          <p:nvPr/>
        </p:nvPicPr>
        <p:blipFill>
          <a:blip r:embed="rId5"/>
          <a:stretch/>
        </p:blipFill>
        <p:spPr>
          <a:xfrm>
            <a:off x="3657600" y="3048120"/>
            <a:ext cx="2019240" cy="165564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8"/>
          <p:cNvSpPr/>
          <p:nvPr/>
        </p:nvSpPr>
        <p:spPr>
          <a:xfrm>
            <a:off x="1143000" y="3276720"/>
            <a:ext cx="2057400" cy="533160"/>
          </a:xfrm>
          <a:prstGeom prst="wedgeRoundRectCallout">
            <a:avLst>
              <a:gd name="adj1" fmla="val 114736"/>
              <a:gd name="adj2" fmla="val 4196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Two Types of Cel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Prokaryot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22268"/>
                </a:solidFill>
                <a:latin typeface="Arial"/>
              </a:rPr>
              <a:t>Eukaryot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Living cells classified into 2 different types based on inter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3399"/>
                </a:solidFill>
                <a:latin typeface="Arial"/>
              </a:rPr>
              <a:t>Prokaryotic cells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– little defined internal structure.  Lack a clearly defined structure to house their DNA.  Organisms made up of prokaryotic cells are called Prokaryotes (all bacteria, all archae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22268"/>
                </a:solidFill>
                <a:latin typeface="Arial"/>
              </a:rPr>
              <a:t>Eukaryotic cells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– more complex structure.  Contain many different kinds of membrane-bound structures called organelles suspended in cytos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15788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ype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04-VS01-ProVsEukaryote"/>
          <p:cNvPicPr/>
          <p:nvPr/>
        </p:nvPicPr>
        <p:blipFill>
          <a:blip r:embed="rId1"/>
          <a:srcRect l="0" t="0" r="0" b="4571"/>
          <a:stretch/>
        </p:blipFill>
        <p:spPr>
          <a:xfrm>
            <a:off x="380880" y="1828800"/>
            <a:ext cx="84679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66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are the main differences between Prokaryotic and Eukaryotic ce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ist one key point from the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is the definition of a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y does a small cell have more surface area to volu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02:38:52Z</dcterms:created>
  <dc:creator>Mary Poarch</dc:creator>
  <dc:description/>
  <dc:language>en-US</dc:language>
  <cp:lastModifiedBy>Lyn Clarkson</cp:lastModifiedBy>
  <dcterms:modified xsi:type="dcterms:W3CDTF">2009-02-05T23:19:32Z</dcterms:modified>
  <cp:revision>93</cp:revision>
  <dc:subject/>
  <dc:title>Cell Structure &amp; Function</dc:title>
</cp:coreProperties>
</file>